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1434"/>
        <c:axId val="4725178"/>
      </c:barChart>
      <c:catAx>
        <c:axId val="38251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178"/>
        <c:crosses val="autoZero"/>
        <c:auto val="1"/>
        <c:lblAlgn val="ctr"/>
        <c:lblOffset val="100"/>
        <c:noMultiLvlLbl val="0"/>
      </c:catAx>
      <c:valAx>
        <c:axId val="4725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1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495-3245-408F-AA78-5D5EF400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CA3-05EA-4253-9257-F095FF9B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64D-0376-40A6-B588-95B26144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DDC-EA96-4711-AD17-83C15BBA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371-2799-481C-B9BD-8039D24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701-955A-4E05-BF50-92718588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113-B219-4CEE-9422-12BCAAA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EB1-A120-45CB-A62A-B5C2F40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873-CAEA-4C42-ABA0-243C20AF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E93-7DFF-4BC9-AC9A-F3E163A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5D8-0A2A-43CD-A693-C297068E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253-59EA-4188-83F6-A2F83A2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0A27-4045-4E9E-9433-832E5BC17F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