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008315"/>
        <c:axId val="31403440"/>
      </c:barChart>
      <c:catAx>
        <c:axId val="560083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03440"/>
        <c:crosses val="autoZero"/>
        <c:auto val="1"/>
        <c:lblAlgn val="ctr"/>
        <c:lblOffset val="100"/>
        <c:noMultiLvlLbl val="0"/>
      </c:catAx>
      <c:valAx>
        <c:axId val="31403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083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E005-E657-47E8-9697-3B0C5C8A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741-E634-41B9-9F12-F5B4D1C1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8777-F931-45F0-8FC6-37A02C4F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AA7-D221-4D56-B830-F3F621C1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330-B330-4E5C-88EB-75A00A09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2CE9-8E3C-43AB-B8C3-B238BF5C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CFE-9091-4CCC-AB43-527DAE91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F0C3-F9D1-4A4F-B1B8-D37988824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EB0C-0289-4A36-919B-EF7A860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DE0-F381-4E61-879C-8384FE1C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33F2-B21D-4788-A58C-967422F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7087-20E9-42CF-ABBF-2E2419F5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2A55C-4590-40D2-8442-2C49F5CFF2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