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66415"/>
        <c:axId val="98745039"/>
      </c:barChart>
      <c:catAx>
        <c:axId val="10366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45039"/>
        <c:crosses val="autoZero"/>
        <c:auto val="1"/>
        <c:lblAlgn val="ctr"/>
        <c:lblOffset val="100"/>
        <c:noMultiLvlLbl val="0"/>
      </c:catAx>
      <c:valAx>
        <c:axId val="98745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66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5B9-A28D-4FCC-AD34-E55AE1C8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297-011F-48D1-936F-F18491C5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47B-2F1E-4E6D-A31D-2F420DCA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14B7-C880-4D05-B705-6AA736B3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BCE-86BC-4A2B-9DDA-F9783125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C8A-BA8B-4C41-AADF-8B767240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4B29-E9EF-4134-AA6D-F5C71A43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078-6446-4C2B-A84C-8F33E8AD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8F6E-33DF-4B24-979D-96663CFE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0C77-D6E2-47C4-9390-592641F7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8495-8383-4927-B24B-9111317F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4A0-0175-4DE8-A1DD-0D36E81C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E7324-7CDA-4733-8911-19F0BF9350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